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A9306-0AE1-41B4-90E9-7672970269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3FC56-FA83-41C5-BA1A-78740CE2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DB9DC-548A-4244-8558-AEA9FBE1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40804-DB22-440B-A3AE-DF3DA3FE95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7458A-DBC0-4032-8C02-5C2C0C42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1D742-E5AF-43F6-965B-1230A16B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CD308-CAC3-4490-A560-B28BEA32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66F60-3D24-4AF0-805F-30052A278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536D9-948F-4591-9DAC-7B9D47F7F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5D35F-26B1-4CEA-9801-26E72068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1D7B2-5819-4E27-94AF-AC1F6839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ACD2B-33DE-4939-95AE-A84089CA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1C0C-7151-4B53-BD75-623116ABC1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的药物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、激素类、降低胆固醇药物以及植物类药物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有内镜治疗和开放性手术。内镜治疗主要有经尿道前列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prostate,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开放性手术包括耻骨上经膀胱前列腺切除术、耻骨后前列腺切除术和经会阴前列腺切除术。其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激光治疗、经尿道球囊高压扩张术、经尿道高温治疗、体外高强度聚焦超声、前列腺尿道网状支架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468360" y="304560"/>
            <a:ext cx="938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131920" y="1700280"/>
            <a:ext cx="5104080" cy="3960720"/>
          </a:xfrm>
          <a:prstGeom prst="rect">
            <a:avLst/>
          </a:prstGeom>
          <a:ln w="0">
            <a:noFill/>
          </a:ln>
        </p:spPr>
      </p:pic>
      <p:sp>
        <p:nvSpPr>
          <p:cNvPr id="142" name="矩形 4"/>
          <p:cNvSpPr/>
          <p:nvPr/>
        </p:nvSpPr>
        <p:spPr>
          <a:xfrm>
            <a:off x="2124000" y="5807160"/>
            <a:ext cx="63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                   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前列腺手术方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耻骨上式；②耻骨后式；③会阴式；④经尿道内镜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明确诊断为良性前列腺增生症，在硬膜外麻醉下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。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回病房后持续膀胱冲洗通畅，冲洗液呈淡红色。术日晚出现烦躁不安，不合作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230/1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红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出现了何种问题？②原因是什么？③如何护理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尿道梗阻、膀胱逼尿肌受损或手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膀胱痉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、尿频、尿失禁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尿潴留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痉挛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腔气囊导尿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温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保冲洗及引流管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、记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良性前列腺增生症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良性前列腺增生症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良性前列腺增生症的辅助检查、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良性前列腺增生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5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功能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性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门诊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仍未完全清楚。老龄和有功能的睾丸是缺一不可的两个重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是最早期的症状，进行性排尿困难是最典型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是一种老化现象，只有发展为良性前列腺增生症才需要治疗，治疗原则包括药物治疗、非手术介入治疗和手术治疗，其中经尿道前列腺切除术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要做好心理护理、营养与饮食、急性尿潴留的护理、用药护理和术前准备。术后护理措施包括病情观察、体位、饮食、预防感染、膀胱痉挛的护理、引流管的护理、膀胱冲洗的护理、术后并发症的护理。另外，还要做好健康教育，提高患者的生活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nign prostatic hyperplas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简称前列腺增生，亦称良性前列腺肥大，是老年男性的常见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的病因仍未完全清楚。目前一致公认的是老龄和有功能的睾丸两个重要因素，且二者缺一不可。此外，在前列腺内（尤其是围绕膀胱颈部的平滑肌内）含有丰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当这些受体激活时该处平滑肌收缩，是引起排尿困难的又一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图片 5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4891320" cy="4511880"/>
          </a:xfrm>
          <a:prstGeom prst="rect">
            <a:avLst/>
          </a:prstGeom>
          <a:ln w="0">
            <a:noFill/>
          </a:ln>
        </p:spPr>
      </p:pic>
      <p:sp>
        <p:nvSpPr>
          <p:cNvPr id="114" name="矩形 4"/>
          <p:cNvSpPr/>
          <p:nvPr/>
        </p:nvSpPr>
        <p:spPr>
          <a:xfrm>
            <a:off x="2627280" y="5756400"/>
            <a:ext cx="49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前列腺增生，腺体凸向后尿道和膀胱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排尿困难伴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尿潴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40/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神志清，表情痛苦。下腹饱满，可触及膨胀的膀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肠指诊：可触及前列腺增大，表面光滑、质韧、有弹性，中间沟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可触到增大的前列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照腺体增生的程度可分为三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时因局部充血、血管破裂发生无痛性血尿。合并感染或结石，有尿频、尿急、尿痛等膀胱刺激症状。长期排尿困难者可引起腹外疝、内痔或脱肛。晚期可出现肾积水和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流动力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特异性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烟酒嗜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排尿或憋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3:33Z</dcterms:modified>
  <cp:revision>114</cp:revision>
  <dc:subject/>
  <dc:title>内科护理学</dc:title>
</cp:coreProperties>
</file>